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D4C8-3CB3-40F0-B1EE-8E7C93F2A8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Непарнокопыт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A823-53E3-4E25-81E1-0D06D68859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объединяет 16 видов крупных животных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сти снабжены копытами 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в скелете ключиц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таются только растительной пи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633B-956C-4C76-B718-57A1D6FDDF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включает  3 семе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пи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ор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0AEB-6FB9-42FF-98D8-945F18F1B3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Тапиры  . У этих животных короткий хоботок , состоит из вытянутого носа и верхней губы. Масса тела – 180-300 кг,  бархатистый мех, толстая кожа. Длина тела 180-200см. На тапиров охотятся ради мяса и шкур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1ABE-39D8-4827-A91B-60CE3E937A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 Лошади. Семейство включены зебры, куланы ,осл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шади открыты  в 1879 году в горных пустынях Центральной Азии Н.А Пржевальским.  Сейчас известно более 100 пород. Используются в различных це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E454-6E3B-40DE-9029-F61F980B88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аны. Примитивная лошадь ,встречается в Туркмении, Китае ,  Монголии. Питается злаками , полынью . Бегают со скоростью 60 км/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1ED1-61C3-491B-ACC8-E74ED57842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нные уши, узкие копыта короткая шерсть на хвосте. используют в хозяй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36C6-A501-45A6-8920-C7DFA14282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бр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е Африки. Пасутся  вместе с другими травоядными имеют много врагов.  Человек отстреливал их ради красивой шкуры , в результате чего многие виды занесены в Красную кни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5D95-F719-4F6C-81E7-545AAA38D5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Носор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большие тяжелые звери массой 3.5 т и более, высотой 1-2 м длина тела 2-5 м. Кожа толстая , почти лишена волос. На передней части морды находится один или два рога. Живут в Африке и Юж. Азии. Занесены в Красную кни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6811-4134-48F0-B1BF-320F35CE7E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9345-4EDE-47BB-B642-92E0EC83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7C9-3435-4884-8B8E-BF71B559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D677-1A3B-43BD-85A1-F936AA60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28DB-84BE-4DA1-8787-90D4C765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03DE-0E80-4E4F-9146-FBFFE48F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74F-8D6B-41EF-9B22-FC188DB7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175-19C3-467B-A600-93B39DA7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8BA9-FE3E-4136-B676-E57EA37A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B52-8203-4FC5-9DC5-12B411FC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1868-BE56-49D6-A26D-E92C99EF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777-2FEF-4B47-AEDA-750BB986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84D-F28C-458B-9631-E2064783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BBF0-BB52-4C4E-BBD2-D5DD3B7F457F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0671-D7DF-472D-9804-934DD6D6D5DB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3"/>
          <p:cNvSpPr/>
          <p:nvPr/>
        </p:nvSpPr>
        <p:spPr>
          <a:xfrm>
            <a:off x="500040" y="5643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B23F-F224-4CC4-9271-92298CC06717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071880" y="5643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тряд Непарнокопытные 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93" name="Picture 6" descr="C:\Documents and Settings\Аркадий\Мои документы\Downloads\000013858699.jpg"/>
          <p:cNvPicPr/>
          <p:nvPr/>
        </p:nvPicPr>
        <p:blipFill>
          <a:blip r:embed="rId1"/>
          <a:stretch/>
        </p:blipFill>
        <p:spPr>
          <a:xfrm>
            <a:off x="0" y="0"/>
            <a:ext cx="4794120" cy="31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:\Documents and Settings\Аркадий\Мои документы\Downloads\singapore (43).jpg"/>
          <p:cNvPicPr/>
          <p:nvPr/>
        </p:nvPicPr>
        <p:blipFill>
          <a:blip r:embed="rId2"/>
          <a:stretch/>
        </p:blipFill>
        <p:spPr>
          <a:xfrm>
            <a:off x="3368520" y="2521080"/>
            <a:ext cx="5775480" cy="43369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E72A-0EE5-47BE-9159-3F84854D4FB6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ряд объединяет 16 видов крупных животных 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 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изнаки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нечности снабжены копытами ,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сутствие в скелете ключицы,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итаются только растительной пищей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3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77CF-4823-4649-AE96-FC86DE7FCA90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219280" y="620280"/>
            <a:ext cx="3745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Отряд включает  3 семейства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Тапиры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Лошади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Носороги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56" name="Picture 10" descr="C:\Documents and Settings\Аркадий\Рабочий стол\64298796.jpg"/>
          <p:cNvPicPr/>
          <p:nvPr/>
        </p:nvPicPr>
        <p:blipFill>
          <a:blip r:embed="rId1"/>
          <a:stretch/>
        </p:blipFill>
        <p:spPr>
          <a:xfrm>
            <a:off x="285840" y="357120"/>
            <a:ext cx="3792600" cy="291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:\Documents and Settings\Аркадий\Рабочий стол\0_1b42_647d43da_XL.jpg"/>
          <p:cNvPicPr/>
          <p:nvPr/>
        </p:nvPicPr>
        <p:blipFill>
          <a:blip r:embed="rId2"/>
          <a:stretch/>
        </p:blipFill>
        <p:spPr>
          <a:xfrm>
            <a:off x="5619600" y="3500280"/>
            <a:ext cx="3524400" cy="307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C:\Documents and Settings\Аркадий\Рабочий стол\per013.jpg"/>
          <p:cNvPicPr/>
          <p:nvPr/>
        </p:nvPicPr>
        <p:blipFill>
          <a:blip r:embed="rId3"/>
          <a:stretch/>
        </p:blipFill>
        <p:spPr>
          <a:xfrm>
            <a:off x="0" y="3643200"/>
            <a:ext cx="4857840" cy="3214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2AA5-0E2B-4A44-910A-827FB8A1996B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98360" y="171000"/>
            <a:ext cx="856944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Семейство Тапиры  . У этих животных короткий хоботок , состоит из вытянутого носа и верхней губы. Масса тела – 180-300 кг,  бархатистый мех, толстая кожа. Длина тела 180-200см. На тапиров охотятся ради мяса и шкуры.  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62" name="Picture 9" descr="C:\Documents and Settings\Аркадий\Рабочий стол\0009-009-CHeprachnyj-tapir.jpg"/>
          <p:cNvPicPr/>
          <p:nvPr/>
        </p:nvPicPr>
        <p:blipFill>
          <a:blip r:embed="rId1"/>
          <a:stretch/>
        </p:blipFill>
        <p:spPr>
          <a:xfrm>
            <a:off x="0" y="1285920"/>
            <a:ext cx="437976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C:\Documents and Settings\Аркадий\Рабочий стол\per013.jpg"/>
          <p:cNvPicPr/>
          <p:nvPr/>
        </p:nvPicPr>
        <p:blipFill>
          <a:blip r:embed="rId2"/>
          <a:stretch/>
        </p:blipFill>
        <p:spPr>
          <a:xfrm>
            <a:off x="4429080" y="2928960"/>
            <a:ext cx="4714920" cy="3929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7103-EB02-4174-BB81-A96D01A576E3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1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Семейство  Лошади. Семейство включены зебры, куланы ,ослы.  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Лошади открыты  в 1879 году в горных пустынях Центральной Азии Н.А Пржевальским.  Сейчас известно более 100 пород. Используются в различных целях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67" name="Picture 7" descr="C:\Documents and Settings\Аркадий\Рабочий стол\0_1b42_647d43da_XL.jpg"/>
          <p:cNvPicPr/>
          <p:nvPr/>
        </p:nvPicPr>
        <p:blipFill>
          <a:blip r:embed="rId1"/>
          <a:stretch/>
        </p:blipFill>
        <p:spPr>
          <a:xfrm>
            <a:off x="0" y="3071880"/>
            <a:ext cx="4827600" cy="378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Documents and Settings\Аркадий\Рабочий стол\0004-004-loshadi-Przhevalskogo.jpg"/>
          <p:cNvPicPr/>
          <p:nvPr/>
        </p:nvPicPr>
        <p:blipFill>
          <a:blip r:embed="rId2"/>
          <a:stretch/>
        </p:blipFill>
        <p:spPr>
          <a:xfrm>
            <a:off x="4762440" y="1143000"/>
            <a:ext cx="4381560" cy="3286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1C80-EAFA-4E46-AB00-E33613A338E7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636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Куланы. Примитивная лошадь ,встречается в Туркмении, Китае ,  Монголии. Питается злаками , полынью . Бегают со скоростью 60 км/ч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72" name="Picture 5" descr="C:\Documents and Settings\Аркадий\Рабочий стол\a72c8dca33398bb7a11506b0d847dce8c5c6733f.preview.jpg"/>
          <p:cNvPicPr/>
          <p:nvPr/>
        </p:nvPicPr>
        <p:blipFill>
          <a:blip r:embed="rId1"/>
          <a:stretch/>
        </p:blipFill>
        <p:spPr>
          <a:xfrm>
            <a:off x="0" y="85716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:\Documents and Settings\Аркадий\Рабочий стол\26668f25236e.jpg"/>
          <p:cNvPicPr/>
          <p:nvPr/>
        </p:nvPicPr>
        <p:blipFill>
          <a:blip r:embed="rId2"/>
          <a:stretch/>
        </p:blipFill>
        <p:spPr>
          <a:xfrm>
            <a:off x="4286160" y="3616200"/>
            <a:ext cx="4857840" cy="32418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2610-9271-4DB9-A278-D3C18F35FFFA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787640" y="1125360"/>
            <a:ext cx="4211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Ослы.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Длинные уши, узкие копыта короткая шерсть на хвосте. используют в хозяйстве. 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77" name="Picture 6" descr="C:\Documents and Settings\Аркадий\Рабочий стол\post-3-12081266684564.jpg"/>
          <p:cNvPicPr/>
          <p:nvPr/>
        </p:nvPicPr>
        <p:blipFill>
          <a:blip r:embed="rId1"/>
          <a:stretch/>
        </p:blipFill>
        <p:spPr>
          <a:xfrm>
            <a:off x="0" y="0"/>
            <a:ext cx="2724120" cy="3500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Аркадий\Рабочий стол\0102.jpg"/>
          <p:cNvPicPr/>
          <p:nvPr/>
        </p:nvPicPr>
        <p:blipFill>
          <a:blip r:embed="rId2"/>
          <a:stretch/>
        </p:blipFill>
        <p:spPr>
          <a:xfrm>
            <a:off x="4143240" y="3143160"/>
            <a:ext cx="4810320" cy="3608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209D-39ED-4E55-B7B1-CFB90E5D838A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Зебры 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Животные Африки. Пасутся  вместе с другими травоядными имеют много врагов.  Человек отстреливал их ради красивой шкуры , в результате чего многие виды занесены в Красную книгу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82" name="Picture 7" descr="C:\Documents and Settings\Аркадий\Рабочий стол\120929239411_(16).jpg"/>
          <p:cNvPicPr/>
          <p:nvPr/>
        </p:nvPicPr>
        <p:blipFill>
          <a:blip r:embed="rId1"/>
          <a:stretch/>
        </p:blipFill>
        <p:spPr>
          <a:xfrm>
            <a:off x="182520" y="1928880"/>
            <a:ext cx="3861000" cy="3513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Documents and Settings\Аркадий\Рабочий стол\285_3.jpg"/>
          <p:cNvPicPr/>
          <p:nvPr/>
        </p:nvPicPr>
        <p:blipFill>
          <a:blip r:embed="rId2"/>
          <a:stretch/>
        </p:blipFill>
        <p:spPr>
          <a:xfrm>
            <a:off x="5572080" y="3857760"/>
            <a:ext cx="3400560" cy="3000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C:\Documents and Settings\Аркадий\Рабочий стол\ph09736.jpg"/>
          <p:cNvPicPr/>
          <p:nvPr/>
        </p:nvPicPr>
        <p:blipFill>
          <a:blip r:embed="rId3"/>
          <a:stretch/>
        </p:blipFill>
        <p:spPr>
          <a:xfrm>
            <a:off x="4214880" y="1428840"/>
            <a:ext cx="3174840" cy="24289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489D-1F98-499F-BCFC-1ECEE432EC12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Семейство Носорогов. 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Это большие тяжелые звери массой 3.5 т и более, высотой 1-2 м длина тела 2-5 м. Кожа толстая , почти лишена волос. На передней части морды находится один или два рога. Живут в Африке и Юж. Азии. Занесены в Красную книгу.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88" name="Picture 5" descr="C:\Documents and Settings\Аркадий\Рабочий стол\0008-008-Pantsirnyj-nosorog.jpg"/>
          <p:cNvPicPr/>
          <p:nvPr/>
        </p:nvPicPr>
        <p:blipFill>
          <a:blip r:embed="rId1"/>
          <a:stretch/>
        </p:blipFill>
        <p:spPr>
          <a:xfrm>
            <a:off x="0" y="3214800"/>
            <a:ext cx="4857840" cy="36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Documents and Settings\Аркадий\Рабочий стол\64298796.jpg"/>
          <p:cNvPicPr/>
          <p:nvPr/>
        </p:nvPicPr>
        <p:blipFill>
          <a:blip r:embed="rId2"/>
          <a:stretch/>
        </p:blipFill>
        <p:spPr>
          <a:xfrm>
            <a:off x="5278320" y="2214720"/>
            <a:ext cx="3865680" cy="29700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600E-67E4-4EA7-A594-EBB532A04C94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1:11:57Z</dcterms:created>
  <dc:creator>user</dc:creator>
  <dc:description/>
  <dc:language>en-US</dc:language>
  <cp:lastModifiedBy>LEGION</cp:lastModifiedBy>
  <dcterms:modified xsi:type="dcterms:W3CDTF">2014-11-24T13:16:51Z</dcterms:modified>
  <cp:revision>14</cp:revision>
  <dc:subject/>
  <dc:title>Отряд Парнокопытные, семейство Полорогие</dc:title>
</cp:coreProperties>
</file>